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A1F-B4DD-4CEB-A695-677F99F7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C18-11B3-4AD4-836A-92260A9B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BEB-FC24-47D0-AE36-24604E49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8C4-2CDA-45F4-BF18-66E96EEC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856-86CF-4F37-95BF-97C77DC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CB7-D583-413E-B059-87413982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F30-69A4-49D2-BC9D-968074A1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AED-16CB-4083-985A-10B66639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20B-C074-471D-A4C1-8409611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15E-A0A9-4965-934A-C0FC107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80A-7404-40C4-92AB-DDF2693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724-DAE1-4EAC-8C26-DBCA9EC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3EC-8939-4FD3-8383-5068E4BC639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教務處頒獎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圖片 3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516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分組合作學習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張沛檥 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順裕 老師、吳建璿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國際教育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推動小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鄭敬儀 主任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文杰 老師、王怡文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依萍  老師、余玥琳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佳琪  老師、陳昭宏 老師、李政學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金中</a:t>
            </a:r>
            <a:r>
              <a:rPr b="1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i</a:t>
            </a: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探索課程發展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吳建璿 </a:t>
            </a: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李宜芬 老師、蔡佳樺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李政學 老師、施佩吟 老師、徐紹青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龔偉遜  老師、李清波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高中部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李佳樺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謝佳琪  老師、林恩宇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文杰  老師、陳琬晴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譚雅婷  老師、汪麗鈴  老師、陳淑芬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國中部</a:t>
            </a: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陳佳伶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黃政榕  老師、王莉婷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順裕  老師、陳顗安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陳怡蒨  老師、呂榮輝  老師、鍾育倫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1:09:01Z</dcterms:created>
  <dc:creator>User</dc:creator>
  <dc:description/>
  <dc:language>en-US</dc:language>
  <cp:lastModifiedBy>User</cp:lastModifiedBy>
  <dcterms:modified xsi:type="dcterms:W3CDTF">2014-06-30T01:37:19Z</dcterms:modified>
  <cp:revision>3</cp:revision>
  <dc:subject/>
  <dc:title>PowerPoint 簡報</dc:title>
</cp:coreProperties>
</file>